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applause.wav" ContentType="audio/x-wav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879-D86E-48F7-B693-4420958A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CCE-672F-4F72-ACED-A8E1C25C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815-A1E1-40B6-B5A6-5FD39870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9C7-E005-42E3-9C5F-4878520E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241-3336-411B-9BEC-27031E6F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CAD-EE5E-45D1-A94B-A0FBCB23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79D-AA5B-4B21-B5A4-7F2FEDB0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312-0DF2-48F3-BC00-8BD5BF3F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7B7-E110-4812-B62F-B5E061EF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4D0-3565-43D3-977A-4B5A61F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7B6-A5BE-4A20-91D6-482953A9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5D1-7925-4B49-BE34-457A871C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E5B0-4690-484A-AC14-8F856EF5D34A}" type="slidenum">
              <a:rPr b="0" lang="en-AU" sz="14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068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Berlin Sans FB Demi"/>
                <a:ea typeface="굴림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earthquakes-in-japan"/>
          <p:cNvPicPr/>
          <p:nvPr/>
        </p:nvPicPr>
        <p:blipFill>
          <a:blip r:embed="rId1"/>
          <a:stretch/>
        </p:blipFill>
        <p:spPr>
          <a:xfrm>
            <a:off x="5143680" y="4214880"/>
            <a:ext cx="3528720" cy="2352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arthquackes"/>
          <p:cNvPicPr/>
          <p:nvPr/>
        </p:nvPicPr>
        <p:blipFill>
          <a:blip r:embed="rId2"/>
          <a:stretch/>
        </p:blipFill>
        <p:spPr>
          <a:xfrm>
            <a:off x="500040" y="1643040"/>
            <a:ext cx="2208240" cy="32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powerful"/>
          <p:cNvPicPr/>
          <p:nvPr/>
        </p:nvPicPr>
        <p:blipFill>
          <a:blip r:embed="rId3"/>
          <a:stretch/>
        </p:blipFill>
        <p:spPr>
          <a:xfrm>
            <a:off x="5072040" y="285840"/>
            <a:ext cx="1976400" cy="2570040"/>
          </a:xfrm>
          <a:prstGeom prst="rect">
            <a:avLst/>
          </a:prstGeom>
          <a:ln w="0">
            <a:noFill/>
          </a:ln>
        </p:spPr>
      </p:pic>
      <p:pic>
        <p:nvPicPr>
          <p:cNvPr id="45" name="직사각형 8" descr=""/>
          <p:cNvPicPr/>
          <p:nvPr/>
        </p:nvPicPr>
        <p:blipFill>
          <a:blip r:embed="rId4"/>
          <a:stretch/>
        </p:blipFill>
        <p:spPr>
          <a:xfrm>
            <a:off x="-79200" y="5376960"/>
            <a:ext cx="48765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굴림"/>
              </a:rPr>
              <a:t>What is an earthqu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arthquakes start by the plates underneath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n earthquakes start they have a humongous shake that can cause up to over 5.0 magnit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earthquake1"/>
          <p:cNvPicPr/>
          <p:nvPr/>
        </p:nvPicPr>
        <p:blipFill>
          <a:blip r:embed="rId1"/>
          <a:stretch/>
        </p:blipFill>
        <p:spPr>
          <a:xfrm>
            <a:off x="5715000" y="2143080"/>
            <a:ext cx="2917800" cy="2187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What dose earthquake mea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he word earthquake is used to describe any seismic event weather a natural phenomenon (an observable fact or an event) caused by humans – that generates seismic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arthquakes are caused mostly by rupture of geological faults, but also by volcanic activity, landslides, mine blasts and nuclear experi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그림 5" descr="earthquake-next-one-photo-rtre2o5-sw1.jpg"/>
          <p:cNvPicPr/>
          <p:nvPr/>
        </p:nvPicPr>
        <p:blipFill>
          <a:blip r:embed="rId1"/>
          <a:srcRect l="8036" t="10715" r="0" b="14287"/>
          <a:stretch/>
        </p:blipFill>
        <p:spPr>
          <a:xfrm>
            <a:off x="5715000" y="5214960"/>
            <a:ext cx="2452680" cy="1500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굴림"/>
              </a:rPr>
              <a:t>Where do earthquakes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0040" y="10713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o part of the Earth's surface is free from earthquakes, but some regions experience them more often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y are most common at tectonic plate boundaries where different plates m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 largest events usually happen where two plates are smashing, particularly around the edge of the Pacific Plate in New Zealand, Papua New Guinea, Japan and the Amer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thquake faul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mal and the thrust faulting are examples of dip slip, where the displacement along the fault is in the direction of dip and movement on them involves a vertical compon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ke-slip faults are steep structures where the two sides of the fault slip horizontally past each other transform boundaries are a particular type of strike-slip 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그림 8" descr="introduction_clip_image002.gif"/>
          <p:cNvPicPr/>
          <p:nvPr/>
        </p:nvPicPr>
        <p:blipFill>
          <a:blip r:embed="rId1"/>
          <a:srcRect l="1299" t="4454" r="2343" b="14324"/>
          <a:stretch/>
        </p:blipFill>
        <p:spPr>
          <a:xfrm>
            <a:off x="3071880" y="5429160"/>
            <a:ext cx="528624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굴림"/>
              </a:rPr>
              <a:t>How are earthquakes det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n earthquake, one of the most dreaded natural disasters, is technically a seismic event that generates seismic waves causing the ground to vibr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n earthquake occurs as a result of a sudden release of energy in the Earth’s crust creating seismic wa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e all are aware of the fact that high-intensity earthquakes can result in a massive destruction of life and proper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그림 5" descr="oceancont_fourcolumn.gif"/>
          <p:cNvPicPr/>
          <p:nvPr/>
        </p:nvPicPr>
        <p:blipFill>
          <a:blip r:embed="rId1"/>
          <a:stretch/>
        </p:blipFill>
        <p:spPr>
          <a:xfrm>
            <a:off x="5286240" y="5072040"/>
            <a:ext cx="2786040" cy="163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굴림"/>
              </a:rPr>
              <a:t>How do we measure an earthqu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cientists measure the earthqu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y measure it by something called a Richter scale. How dose it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 Richter scale is on a table, when an earthquake start it starts shaking by the table and it prints a squiggly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n if It Is big it means it is going to go up and down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그림 7" descr="Richter_scale_935301473.jpg"/>
          <p:cNvPicPr/>
          <p:nvPr/>
        </p:nvPicPr>
        <p:blipFill>
          <a:blip r:embed="rId1"/>
          <a:stretch/>
        </p:blipFill>
        <p:spPr>
          <a:xfrm>
            <a:off x="6215040" y="4929120"/>
            <a:ext cx="264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  <a:ea typeface="굴림"/>
              </a:rPr>
              <a:t>How to stay safe from an earthqu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400" y="164304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n it is a small earthquake just stay underneath a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굴림"/>
              </a:rPr>
              <a:t>W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굴림"/>
              </a:rPr>
              <a:t>hen it is a big earthquake go near a wall and stay cal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그림 5" descr="images.jpg"/>
          <p:cNvPicPr/>
          <p:nvPr/>
        </p:nvPicPr>
        <p:blipFill>
          <a:blip r:embed="rId1"/>
          <a:stretch/>
        </p:blipFill>
        <p:spPr>
          <a:xfrm>
            <a:off x="785880" y="4214880"/>
            <a:ext cx="2857320" cy="1898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  <a:ea typeface="굴림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 average, the Earth experiences each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e earthquake of magnitude .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n earthquakes of magnitude 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n hundred earthquakes of magnitud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그림 5" descr="images.jpg"/>
          <p:cNvPicPr/>
          <p:nvPr/>
        </p:nvPicPr>
        <p:blipFill>
          <a:blip r:embed="rId1"/>
          <a:stretch/>
        </p:blipFill>
        <p:spPr>
          <a:xfrm>
            <a:off x="4071960" y="3929040"/>
            <a:ext cx="3097080" cy="2071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4:17:24Z</dcterms:created>
  <dc:creator>Ji-yun Jeong</dc:creator>
  <dc:description/>
  <dc:language>en-US</dc:language>
  <cp:lastModifiedBy>블랙에디션</cp:lastModifiedBy>
  <dcterms:modified xsi:type="dcterms:W3CDTF">2010-03-21T08:40:00Z</dcterms:modified>
  <cp:revision>36</cp:revision>
  <dc:subject/>
  <dc:title>Earthquakes</dc:title>
</cp:coreProperties>
</file>